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403-A4E1-44C5-8390-2A2F5F57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14D-3E71-4B18-8136-8EC89C85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527-580B-4C88-96F4-5B36015C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E33-0277-4B91-BE79-19AFA4D6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001-9E93-4A93-B58A-62766C3E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084-913F-4CDA-8482-434D0D57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1C4-B653-48C5-AECF-19650B29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D85-8287-436D-BB42-081F3B31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0CD-BB18-4E15-9D37-CCBAA2F6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F7C-4FC4-45AA-A631-3A2E8171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E4C-6691-497B-9DE2-4B5BD872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A8D-79BE-4320-B700-79651496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991BA-6E3D-4C77-AC08-599F9F034E3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tertainment.howstuffworks.com/water-blaster1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Rheolog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Capital Univers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Everything Flow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The Greek letters on the hourglass logo of The Society of Rheology— panta rei (sometimes pronounced “ panta rei”)—may be translated “everything flows.” This phrase (or philosophy) is attributed to the Greek philosopher Heraclitus of Ephesus (536–470 BCE) and is taken from the more complete quote: “Everything flows and nothing abides; everything gives way and nothing stays fixed.” The Society motto was suggested by Eugene Cook Bingham and it reflects the field of study of rheology — deformation and flow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6969240"/>
            <a:ext cx="5943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rom http://www.aip.org/tip/INPHFA/vol-10/iss-2/p2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Vocabulary for Toda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Rhe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Viscos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Non-Newtonian Flu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olym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Viscosit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http://en.wikipedia.org/wiki/File:Viscosity.gi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Viscosity and Wat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8869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entertainment.howstuffworks.com/water-blaster1.ht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ater's viscosity can be represented by a coefficient that does not va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43200" y="3657600"/>
            <a:ext cx="4684680" cy="33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Non-Newtonian Fluid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http://www.youtube.com/watch?v=f2XQ97XHjV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Another Non-Newtonian Flui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http://web.mit.edu/nnf/research/phenomena/slug.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Polym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3280" y="1814400"/>
            <a:ext cx="5440320" cy="50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A chain of molecules with a repeating pattern. Such as DNA (and other common everyday life thing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-7344" r="0" b="0"/>
          <a:stretch/>
        </p:blipFill>
        <p:spPr>
          <a:xfrm>
            <a:off x="6400800" y="441360"/>
            <a:ext cx="3429000" cy="6873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6969240"/>
            <a:ext cx="3833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tterns—kinesthetic then spag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3840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At last:  Gak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384012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Borax causes the glue molecules to organize in chains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5334120" cy="711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20:40Z</dcterms:created>
  <dc:creator/>
  <dc:description>Creative Commons License
Some rights reserved. This work is licensed under a
Creative Commons Attribution 3.0 License.
Based on Dianita89's wallpaper Citrus E available here:
http://dianita89.deviantart.com/art/Citrus-E-62956586</dc:description>
  <dc:language>en-US</dc:language>
  <cp:lastModifiedBy/>
  <dcterms:modified xsi:type="dcterms:W3CDTF">2010-02-01T17:24:44Z</dcterms:modified>
  <cp:revision>2</cp:revision>
  <dc:subject/>
  <dc:title>Citrus E</dc:title>
</cp:coreProperties>
</file>